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4E8-55A6-4350-84E5-B70FB38A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CE0-5CCE-488C-9924-F562234B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F8543-9120-4A93-9413-81517920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0A4A4-BEB5-4092-987B-C2D1A62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60070-7899-4DE7-9386-B2BBAD69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DB8C2-80D3-423B-B00E-C97BE19D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9B0CC-D0BB-49E0-A533-BEA90D3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CF9D3-52D6-45B7-B35F-365358BE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1241F-B8A3-4090-BA5C-22ED441C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F7C18-69DD-46C3-A71B-2A0A4F7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71EEC-1947-414E-BC5F-643DBEC1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91D4C-5EE5-4636-ADD7-61D5C55D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790-63CE-4DC9-AB4E-5029A4CD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480A3-BE9E-499D-9DF4-E1FE3B7F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A14C2-9919-4D14-A1D7-3F39D0AD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86981-9A28-432A-A068-2F2AB34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0260-E084-4EE5-A3DB-FB3A371B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5DFC3-4CD9-4DC2-B265-3E6BEFE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800FC-9372-4A45-8A7E-D58841FB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422DF-A02A-4E38-AD3C-02476FFC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17AB6-6BE7-4F95-A8F0-E0F2CA7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8CD11-F0BE-4B98-8FB9-990FDF7D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BF6B7-0F21-4178-A330-CDBD7301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F60-1B5E-4280-AE13-628F8374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5B06D-7D25-49C6-BD5B-93D68CC9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EF845-42AC-4E9B-AC1D-2DA262BC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EC4C3-2C26-4146-98C4-A4A2A2E1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D15A8-04BD-4074-85DF-D23927E1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581D5-F10C-4620-B30B-08A25ADE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204F-4A43-4955-AEB1-7916D01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E203E-5C5E-43FD-B3CB-D87F7553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34FB9-77F0-48C8-9A6D-6171D229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B95B7-19C0-4647-8A43-8D55C14A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392CA-54EC-4685-AA7F-00FF79F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3D4D-A820-4032-B7F3-A6047D15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4717B-9785-48B9-8F3D-5911573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CC88B-0E0A-46B2-8458-A3493AC0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DD819-D7B5-4369-A893-918FBE3F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2E142-9343-444E-9F8F-436B2CD3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D3A2E-6114-4957-AAB6-51223C4B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042AE-021A-4B9A-9C01-6CF8CD27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2D7CA-62B1-4ACD-9AC9-019E9704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5A091-82C5-4773-A0AE-ABCB4E9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47424-5952-47FF-ADBF-6F7E43C1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C1B76-9FDB-4C81-9985-2A9391C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123-EF61-4185-A30F-63B43A6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B2931-C9BB-4504-B52C-0C5CD7D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5FFAB-BAD8-4A0E-AEA2-BCF0795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7BD32-56D0-44FD-B623-E5E4A9CB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29A25-9DB4-4B69-90AD-2B927D31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CDFA-AFBF-46AF-83C3-F798BB92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95C01-A000-4609-BC7C-EF74DB88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41D49-5157-4605-82C6-3C34C861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8DFAF-DE6C-476E-B7CD-A9C8078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70714-AFAC-4F79-9898-DEA7924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A71B9-4D68-4E68-9336-68B69A1A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776A-EAA4-4CB7-9B4E-B97179C0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53A51-0C75-41A9-9A64-5528B916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A4A43-476B-4D41-B588-73C8DCB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32FCB-1B70-4420-8CDC-0473B72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47DAB-FAEB-4AE8-AFE4-C7955D9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176E6-C54F-42C6-B06B-FBACD06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59ED0-07D1-4988-94DE-E8A68C56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4B374-94BD-429A-BC5D-3A2B3A40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DAA3A-AC20-49E2-ADAE-EE740E5B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03FB4-4800-4880-9907-E7933302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10D38-F266-4327-AC41-40F2E7B3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6032-922F-4957-A2BB-1D28F47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79B99-2EC8-474C-8271-BB8F53BB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9DE17-E9AB-4667-A224-85F0AAD7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73928-BA11-44B6-834D-603EB225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3694E-4C06-4206-B270-AE57BD21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AB0F7-32FD-493C-BF57-01678050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E4502-E36F-403F-BFBE-FDD7F8C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6A322-1DAC-4B6A-940D-E287C77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CB968-9A08-4EB1-9886-3FBC82B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3DF4A-EE38-40DF-90BF-5DDE1E73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A5CEE-CD46-4292-95AF-4BEF3FDC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DF57-D41F-40EF-8839-FEAD2FC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837EC-535A-4373-8FE7-0C02A22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2B886-5EFE-43DA-9CF8-021E02E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DF6D8-5170-413B-8027-B661A75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B1503-D730-4FFB-86EB-1D6F364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C5B8C-3D5A-4974-B36B-318B8736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7B9C2-136B-4696-9169-7493517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B16E9-36E9-4EBC-8F7E-83972F3C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3EB16-EEC6-4D02-B80B-1D0FC98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EFB22-1E4D-49FD-A3A9-A837897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E0CB6-4895-4F9D-A8C0-FF4D4D81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7E9-B02E-4FA5-B3DA-D73C2C96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72A30-3EC1-4F0E-8F42-8BD02234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25632-E569-4AA5-9F27-4C8A9D73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B3B36-F247-486B-A253-8AF4C4CC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59C8A-AC8D-40BF-A8BF-E6AE04D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E713D-2611-4D61-8C91-FB81F3D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07B1A-3396-4397-885D-9E6AA3D5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5D287-D7F9-48D8-9597-07AFE2C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D32CE-F89E-4EAC-8964-1061B2E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C6B64-1931-494E-AD61-5389354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864B53-1FF7-4E61-B5BD-9C79F7D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C349-E06C-432D-BF36-36B791B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5DB17-8E4B-4FAF-A66A-7FC598A3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4407A-D17C-4000-9B6B-A54A7438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16455-80BA-4944-978A-96D6D315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E709F5-FD80-4AD0-8040-E7B98C63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9A435-95EB-4574-89BE-461FAA5F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58973-C7B4-496A-9634-FA2E3BD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2E833-CFBF-4407-A431-250FD66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63783-A01F-40BE-B46E-CB51B5DA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46075-AE58-4C30-B8EC-9F795A2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3F679-B1A5-4BC8-9720-F89BA79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C7E-F76A-4FA4-B185-AE5A8BC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B9D0-80A9-4FD6-9E00-E3071B8F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A63E3-D829-4741-B1C5-8C4DAE40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6DC058-192E-4BA9-BBA3-A8009D0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22C2A-E243-4DF9-89FB-4FA1F2C1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28F67-671E-4C33-9A87-C08BBF8C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F7BC1-53DF-4B65-9993-925FF197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3878F-6EBF-4CAE-BE94-C2B27610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D7786-D760-4E82-857F-B159E3A3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A31CB-EA33-4BBE-ADDB-C216BE7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2250A-D0A3-4655-B1BE-CD9BB4B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91B1A-F978-4444-8460-587DD6E6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FD1B-FABF-4F25-A5E1-DC701FB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86240A-5D1C-4319-B456-FF36C86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FFD021-B967-4CC0-9A8E-83B13E6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60B58-5953-4D55-973D-908B2703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2D048-8086-47B7-AA43-24C2032A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7BA47A-2D24-4275-8869-325243C6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54E70A-784F-4245-9729-5B45E6B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52014-BA12-4ACD-B075-73C88E24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F5302F-95EB-4D19-8F4E-50748655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00E8E-1D9E-4D3C-ACA6-FF6C7DA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45425-4241-40E4-B78B-EF2DB6B7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F6A-3384-40D1-9DE4-C3755E1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CC1BD-4EDC-46B4-A5D3-6354052B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5AF85-894A-4EFE-9886-979F7F11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A4E2A-201F-4062-9F34-4F54761D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EE66B-3640-4015-8B9E-3BB88ED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E5E80-82FB-43F8-9CC0-9E86A972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85F1B-A480-452A-9E9D-E547E56B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24CCC-405E-4F7C-A574-5C5A38B3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6067ED-9766-4D6C-9F47-97A7C08F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2D791-2656-4164-9537-17E5BE2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30072-23BA-4FC4-9183-394B9BBC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8A46-70F1-49C3-8E1A-4CE54DCA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958F68-5801-48A7-B1F5-BD79F2F4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A808D-3913-4B2C-ABA4-7010F25A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71DF5-9A5C-42FA-BBD3-459E7A36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52BDA-4ED4-471B-93AC-85A95FA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8FFDD-E741-452E-8686-DB65E38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CE827-D8F9-450F-A432-6DB0569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11FF9-60FD-48E7-B07C-0297FEB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1BDDA-7A62-4784-9518-6B446DFB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AA3E2-FC5B-4A62-B812-3F2B107C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2F8AE0-973E-44FB-9135-813A7B3D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67B9-76C0-4A65-A596-510492AC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DBB50-EB57-418C-975C-1CF8E1BF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D9E83-025E-4452-9826-659BA15F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5DE949-CB9F-44EC-9FE6-D06502E8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2564A-C9C5-43B9-8D06-3BEE43E7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F9BF1-4B9A-439A-A385-EB83A1A5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EF5AE-4FF1-4A24-AA0B-1554FE91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A8803-7AF6-4C56-A88E-C19BF8B5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17974-7957-46B7-B83E-46C1145F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E7511-7206-4A60-BEDC-2459D6F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896F4-4E76-4681-A9A5-36A1D9FC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B0F63-5A83-4A6C-A463-49702354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C67D0-0A78-4312-A8AD-181B8F32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DDC625-7254-4B1B-8E7D-435FCFCB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6979A-9CEA-40F2-A368-A8AC401B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A7F0-AD8F-4193-94C9-CB0F5612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D16C-6486-4D69-8757-E563D85C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87CA-B154-4562-BBA3-C1BEAA96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7C90-4A0B-4146-9AD4-EE40807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56A-94C1-457F-A252-57A40CB3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FC0C-DB3B-4353-9F13-8ADC32DA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B989-C9A7-479E-A894-B838E60F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3F33-0CF7-4D3D-B5EE-E71AC4C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7C31-996B-4664-B9D4-26696DB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BB8A-DC8C-4E91-A052-6474FD1F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963B-3F8B-4B5D-8594-FC82DA47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32F2-CE0D-43BF-A4E6-F85CD35E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7763-A6A3-4BCD-864D-42047DD1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39817-089E-415E-90BF-2BC66BA1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1FDF-561B-47E6-B29E-E505C7B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509-DBDD-4DFA-BE1F-2072942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6A2B-7CD4-4343-B8C4-21E698AC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2E06-A006-4248-964F-75F7DA91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E01A-E91A-4FA4-B982-32B5D2E9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2B050-D9F3-4A26-BF40-FF1AE84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14FF1-A148-4F80-A318-0F1837E6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25E4A-BFD9-43B0-91DC-2576171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65E4-5812-4BA8-8C47-3A75ECD1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DD82-8F81-4325-A166-49CEFACF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E303E-20C5-448D-9741-7933F9E0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1320B-16E5-457A-9A0C-26522C51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3C4-3F13-4C2B-89B5-E1D5A213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3B004-A1A9-4A60-AAB8-AFD4A483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1350-F1B0-44D2-88C1-5D852DC0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19208-C0D7-4398-BE3D-F02E377B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DDF5-FA16-4DB7-B7E9-74F0FAC6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FFCF-D96C-4940-AED5-52D89619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E484-A810-492E-B019-AAD1930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82D0-6864-45D2-8AF1-0E4649B1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92E75-B91F-4486-92F2-4F89E37E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CF6F-1200-4A78-A954-5D5E8CD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02EFE-D327-498F-89DE-B316D3F5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52A-C716-41C5-BF0C-5D258EF3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B7EB-D7B1-47A5-A2FA-1ECA8977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C41A5-F79A-4D11-8037-9C325BCD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9B70-AC63-441B-8047-F05C0CDC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A8CA0-27DD-4782-89D7-ADD260EF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40B55-507C-4F08-B78C-55485B58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F1A93-F7F7-46F6-AC99-61F3B456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CD6D4-380E-4259-80AD-40148AE6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BEBA-FBC4-46F1-AD6E-C0F20A4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BA5A9-782A-4E51-B75F-6EE0586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7BE63-D796-4265-8414-E64F2BD1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1BD-399D-482F-87D3-BE7B59E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278D5-8B5B-4668-A9CD-FD0ADF5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9657-B0BE-4A9A-A8EF-BCB2CAE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81EF-3DFE-44E9-9FCE-D52D2389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1F36F-1CB6-436A-91C6-F65AFC7C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C5AA5-F532-4536-8B5E-02F997E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EA3C-19C4-4CF0-955F-417405B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DB1E-886B-4AE6-A351-982286E4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5B5C-35E2-42A0-B89D-F851B570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09DCB-F716-4B49-9944-240317A2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36DC5-0698-458E-B860-8A264CC0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345-B8E0-48AF-85F1-8C9BD0D4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01DF-1AFA-4205-A86F-CEF39A5A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8607-27AD-42F0-B8F4-6744EBB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B9AAD-BDC3-44A0-A65A-B6E1409E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B3F6B-0599-42A0-8A5D-F266F849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291B-6409-46FE-887D-D24B38AE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153F9-E991-4833-B6C2-AE256923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6CD6-3AED-4C14-9B32-8EFFCED7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BAE71-7B22-4296-81D5-1A5D375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22D9-15A7-4BE2-A709-0B9E13A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5D3B3-33EE-4B57-926B-54046368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B6B-6738-4DB4-BC92-512E8480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D374-F50A-4343-A5E4-45D62F2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08F3-4321-427C-B816-FD18B119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690F1-1B59-4A98-A26B-ADC6A9B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D467-30CD-44D8-8B49-575864F7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101D-4F7E-4178-B6A4-C7445AE2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0EEF-8EC9-4A64-9C02-0138A567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C7FA-6B95-4A3D-856B-7F50C704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46991-6BC1-4699-A5BB-D138610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BB08-393B-4134-A6E2-8E42EC8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95AD-4D0F-426E-BF78-A8D57F0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AFD-9DD3-44C2-BF45-E92028700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2543-A7CF-4016-82FE-A0EB74B812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4B67-3BAD-469D-A771-0E221CF705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D6F-1643-4670-BE2F-81D6910F9B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4CF-B034-43A3-A0E3-274FEBEA2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0331-B90E-4557-917C-B00C83B25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C927-E923-4282-926F-B116DB23DD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699B-2DBE-4750-BE9C-E717F22CE9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474C-03CE-48E6-8DFB-79DA5F664A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2AF-8360-40E2-BA77-694A1551FA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BF4-EE9D-411A-B3A0-61560D637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4D2-7586-4C6D-BDA7-F8D4C14A2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B5F-013F-4B84-92B0-3C7EA46C2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7C9-E797-4F49-BFE7-96C37B5762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DC1E-1043-4270-87D6-0D16F2765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37D2-2787-4447-8B76-37ED624E7B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883-3F0B-4F43-8AF7-EE2084FFD5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4E5-8D15-48F8-AF40-ACA3AF19F7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9D7-62A6-45A6-8578-65E54EB20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C9C-D060-4D68-95D8-1B4DD5038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10D-02FD-49A9-B770-EA811A5E1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AC66-9EF8-43ED-AE8B-29F99248F6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C394-49E3-447B-A2D5-B4D05F219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8FF-CEDE-481E-BB71-E707F54EE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3A3C-E43B-4187-8DAE-0F8C6A4FB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F1A1-05A8-4801-87EB-DBBFECF8C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73D-899C-48AA-82EC-DB2B52BBE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E30D-26FE-4219-B1EF-CED929567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2D1B-F5EC-4FD9-8FAB-49AE7F005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414-02ED-4E3D-9A95-6124254E5E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BEFC-78F2-4459-82E2-4F6B15896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938-6D05-49EB-96F1-31AE79DC4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2F3D-9780-4F57-90CB-1400354A2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F28D-5738-4FA9-83AA-8E38CBBDA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9E6-9915-4BBD-8FAF-FCD0D2EA8B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86A9-9412-4A6E-955E-3AAACF107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1619-6F73-451B-A2D7-37C79D640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0041-A417-4AE9-A715-A390FDE5FB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68A8-BF81-4BED-BD69-3954C58A6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317-88D4-4392-A720-587AA458F2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30320" y="3087720"/>
            <a:ext cx="89056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080" y="1886040"/>
            <a:ext cx="9105840" cy="3085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4100" descr=""/>
          <p:cNvPicPr/>
          <p:nvPr/>
        </p:nvPicPr>
        <p:blipFill>
          <a:blip r:embed="rId3"/>
          <a:stretch/>
        </p:blipFill>
        <p:spPr>
          <a:xfrm>
            <a:off x="74124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4101" descr=""/>
          <p:cNvPicPr/>
          <p:nvPr/>
        </p:nvPicPr>
        <p:blipFill>
          <a:blip r:embed="rId4"/>
          <a:stretch/>
        </p:blipFill>
        <p:spPr>
          <a:xfrm>
            <a:off x="5321160" y="2751120"/>
            <a:ext cx="648000" cy="6080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4102" descr=""/>
          <p:cNvPicPr/>
          <p:nvPr/>
        </p:nvPicPr>
        <p:blipFill>
          <a:blip r:embed="rId5"/>
          <a:stretch/>
        </p:blipFill>
        <p:spPr>
          <a:xfrm>
            <a:off x="727200" y="4033800"/>
            <a:ext cx="647640" cy="60804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4103" descr=""/>
          <p:cNvPicPr/>
          <p:nvPr/>
        </p:nvPicPr>
        <p:blipFill>
          <a:blip r:embed="rId6"/>
          <a:stretch/>
        </p:blipFill>
        <p:spPr>
          <a:xfrm>
            <a:off x="5335560" y="4048200"/>
            <a:ext cx="6476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523800" y="1138320"/>
            <a:ext cx="8096400" cy="458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566640" y="1905120"/>
            <a:ext cx="8008920" cy="3047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505080" cy="448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4400" y="1123920"/>
            <a:ext cx="9113760" cy="4610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042920" y="3659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85640" y="2600280"/>
            <a:ext cx="8172720" cy="16574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826920" y="2579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0:32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